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E6B-6AAA-4E12-B74E-969CF09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62F-59BB-4B7C-BAF5-1A9F8965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AFD-6564-4CD7-8EDD-49B46603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562-1988-418D-B3CB-ACCDD74C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AD9-022D-4E55-8769-62AD843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8F95-20A3-4C6E-9340-80B0026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122A-788E-45C7-A6C4-B927C4DD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1294-9556-4AF1-BD9B-29638DB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1CE4-5702-4FCA-8363-57EE2B4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B7E-0DA8-4F01-ABE6-467E67B3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67ED-0A48-4932-A4E8-D1E79554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CD-2A0A-4A49-AAF4-D341ACE1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4C4-B02F-4DAB-8014-8A86655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5E9D-AE3E-4420-B3C1-3FD44318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378-4874-4EE0-A767-75EAF76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10F-CDC8-464C-8240-66806A6D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F55-BE56-402B-9CEC-F4FCE79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F26-69D9-4DF2-8422-5AE3E25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48B-BF20-4EEB-9390-7A4E7BDF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9AD-6D7C-40C1-8CBF-E9A9A53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8F2-CB68-4488-B4F5-78E8C6A1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0F8-9E3B-4B5B-A578-E1A359D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1D6-E90D-4176-A7DF-CA2B1B9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99D-EF9C-485F-B23D-991EA38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9DDD-6BAE-45B1-A90D-C1B1F4C2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903-27F6-4202-A221-77BB89AC7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nginecompany1.files.wordpress.com/2009/03/1233850636_wallpaper-brain.jpg&amp;imgrefurl=http://enginecompany1.wordpress.com/&amp;usg=__FisLqeJAqR2AcXDoVRKvoksHVZs=&amp;h=768&amp;w=1024&amp;sz=50&amp;hl=en&amp;start=9&amp;um=1&amp;tbnid=PkiyfXuSo4dVIM:&amp;tbnh=113&amp;tbnw=150&amp;prev=/images%3Fq%3Dbrain%26hl%3Den%26rlz%3D1T4ADBR_enUS275US276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giniagrains.com/cg_wheat_closeup.jpg&amp;imgrefurl=http://www.virginiagrains.com/Wheat%2520Information.htm&amp;usg=__83JnuLfJb1bc3l0YnGyVi1I54M4=&amp;h=450&amp;w=600&amp;sz=245&amp;hl=en&amp;start=1&amp;um=1&amp;tbnid=x468T1nXFjs1LM:&amp;tbnh=101&amp;tbnw=135&amp;prev=/images%3Fq%3Dwheat%26hl%3Den%26rlz%3D1T4ADBR_enUS275US276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Mrs. Vollmarard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45584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of Nut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38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94720" y="1676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7760" y="1676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04520" y="1671480"/>
            <a:ext cx="1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166440" y="6396120"/>
            <a:ext cx="29880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inal Mrs. Vollmar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626480" y="2362320"/>
            <a:ext cx="650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the 4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-Soluble Vitami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988360" y="2362320"/>
            <a:ext cx="31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, D, E, 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26360" y="2133720"/>
            <a:ext cx="715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calories 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one gram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6624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ou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25400" y="251460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“refined” carb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143000" y="1981080"/>
            <a:ext cx="737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ite rice, white pasta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ke, cookies, crack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600200" y="1981080"/>
            <a:ext cx="6248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 should make up the majority of your caloric intake?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6280" y="21240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21337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two examples of complex carbohydrates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3880" y="1828800"/>
            <a:ext cx="662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ole grain flour, brown rice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ole grain bread or pasta, sweet potato etc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7760" y="2743200"/>
            <a:ext cx="852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at is the prim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fuel for the brain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tbn2.google.com/images?q=tbn:PkiyfXuSo4dVIM:http://enginecompany1.files.wordpress.com/2009/03/1233850636_wallpaper-br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724280"/>
            <a:ext cx="212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523880" y="21337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too many carbohydr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eads to diabetes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657600" y="2362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49440" y="2209680"/>
            <a:ext cx="787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calories are 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ne gram of fa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818520" y="2286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7520" y="1981080"/>
            <a:ext cx="895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fatty-aci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s generally solid at room temperatu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. Short-ch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. 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. Monoun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. Polyun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11440" y="236232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. Saturat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48360" y="2209680"/>
            <a:ext cx="783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almon is an exampl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a food that suppli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uch of what type of fa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5" descr="http://tbn3.google.com/images?q=tbn:F6Bj51LpN-EQTM:http://anirishgirlcooks.files.wordpress.com/2008/11/fish_-_cartoon_01.gif"/>
          <p:cNvPicPr/>
          <p:nvPr/>
        </p:nvPicPr>
        <p:blipFill>
          <a:blip r:embed="rId1"/>
          <a:stretch/>
        </p:blipFill>
        <p:spPr>
          <a:xfrm>
            <a:off x="3352680" y="4952880"/>
            <a:ext cx="2301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309680" y="2362320"/>
            <a:ext cx="66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mega-3 Fatty Aci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99320" y="2133720"/>
            <a:ext cx="67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’s are essential f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your well-be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2996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57480" y="2438280"/>
            <a:ext cx="46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327320" y="2209680"/>
            <a:ext cx="631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exampl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a “bad” fat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77200" y="2133720"/>
            <a:ext cx="684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otato chips, butter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ole fat dairy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imal products, etc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5" descr="http://tbn1.google.com/images?q=tbn:vTs9yelrhODseM:http://www.ces.ncsu.edu/depts/ent/notes/forage/rifanote04/potato_chips.jpg"/>
          <p:cNvPicPr/>
          <p:nvPr/>
        </p:nvPicPr>
        <p:blipFill>
          <a:blip r:embed="rId1"/>
          <a:stretch/>
        </p:blipFill>
        <p:spPr>
          <a:xfrm>
            <a:off x="7543800" y="3657600"/>
            <a:ext cx="12952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98320" y="2209680"/>
            <a:ext cx="76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mo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rotein will “bulk” you 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http://tbn2.google.com/images?q=tbn:FzyWtMtQRrENaM:http://www.lexcaliburs.com/Images/Weight%2520lifter.jpg"/>
          <p:cNvPicPr/>
          <p:nvPr/>
        </p:nvPicPr>
        <p:blipFill>
          <a:blip r:embed="rId1"/>
          <a:stretch/>
        </p:blipFill>
        <p:spPr>
          <a:xfrm>
            <a:off x="3809880" y="4818240"/>
            <a:ext cx="1447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515400" y="2286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$2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57240" y="2286000"/>
            <a:ext cx="55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dieta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ource of prote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96920" y="2057400"/>
            <a:ext cx="890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hicken, fish, steaks, chee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ut butter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7760" y="2286000"/>
            <a:ext cx="85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essential amino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cids are ther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74256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11280" y="2133720"/>
            <a:ext cx="80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a high protein diet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ch as “The Atkins Diet”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s a healthy way to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ose weight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515400" y="2286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Role of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26960" y="1981080"/>
            <a:ext cx="844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are exampl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f carbohydrate-rich foods?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utter and Corn O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eef and P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eat and Lent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acon and Eg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330920" y="2209680"/>
            <a:ext cx="71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omplete proteins a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rimarily foun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animal sources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729960" y="2286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73840" y="2286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diet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Vitamin-C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83240" y="1981080"/>
            <a:ext cx="707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ranges, red peppers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yellow peppers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sparagu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06680" y="2133720"/>
            <a:ext cx="63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ost of the body’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Vitamin-A is store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742560" y="236232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iv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859040" y="2209680"/>
            <a:ext cx="5933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primary role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B-Comple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vitamins is to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329120" y="2438280"/>
            <a:ext cx="687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ct as Co-Enzy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3560" y="243828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at are the two categor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at vitamins fall int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40800" y="2590920"/>
            <a:ext cx="581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ater Soluble an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 Sol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704960" y="2438280"/>
            <a:ext cx="56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eat and Lenti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tbn0.google.com/images?q=tbn:x468T1nXFjs1LM:http://www.virginiagrains.com/cg_wheat_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2036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03400" y="2438280"/>
            <a:ext cx="726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a diet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Vitamin 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61880" y="2362320"/>
            <a:ext cx="863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eat germ, peanut butter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nflower oil, almond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Final Jeopard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48360" y="1828800"/>
            <a:ext cx="783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escribe three different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ips you could beg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o follow today in order t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mprove your diet.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Final Jeopardy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5360" y="2209680"/>
            <a:ext cx="901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 more veggies/fruits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hoose whole grains choos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ow-fat dairy products, e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eakfast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80880" y="236232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nutrient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most nutrient dens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. Carbohyd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. F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. Pro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. Vitam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440160" y="2286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. F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178640" y="220968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building bloc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proteins are call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668680" y="220968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mino Aci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ates, Debra</cp:lastModifiedBy>
  <dcterms:modified xsi:type="dcterms:W3CDTF">2009-09-14T21:33:04Z</dcterms:modified>
  <cp:revision>28</cp:revision>
  <dc:subject/>
  <dc:title>Jeopardy</dc:title>
</cp:coreProperties>
</file>